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5486400" cy="41148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1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1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1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1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1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1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AutoShape 1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1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1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2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AutoShape 2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AutoShape 2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AutoShape 2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2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AutoShape 2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AutoShape 2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AutoShape 2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AutoShape 2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AutoShape 2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AutoShape 3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AutoShape 3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AutoShape 3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AutoShape 3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AutoShape 3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AutoShape 3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AutoShape 3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AutoShape 3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AutoShape 3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3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4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4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4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4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4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4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4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4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4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4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5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5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5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5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5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5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5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5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5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5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6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6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6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6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6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6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6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6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6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6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7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7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7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7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7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7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7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7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7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49039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92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479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dt" idx="1"/>
          </p:nvPr>
        </p:nvSpPr>
        <p:spPr>
          <a:xfrm>
            <a:off x="4398480" y="-360"/>
            <a:ext cx="32482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2"/>
          </p:nvPr>
        </p:nvSpPr>
        <p:spPr>
          <a:xfrm>
            <a:off x="0" y="9555120"/>
            <a:ext cx="32479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3"/>
          </p:nvPr>
        </p:nvSpPr>
        <p:spPr>
          <a:xfrm>
            <a:off x="439848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CF6D6B-4433-4A17-A3E3-7C4FBD45E9B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C87A2D-E43B-4350-A917-04529FE8C0A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1371600" y="763560"/>
            <a:ext cx="5000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94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B61D57-BF6E-40A3-9DF3-7BE80F58F9E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11120" y="7635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92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2440" y="2233440"/>
            <a:ext cx="476424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93960" y="84276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52440" y="223344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2793960" y="223344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153396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963440" y="842760"/>
            <a:ext cx="153396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574440" y="842760"/>
            <a:ext cx="153396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52440" y="2233440"/>
            <a:ext cx="153396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1963440" y="2233440"/>
            <a:ext cx="153396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3574440" y="2233440"/>
            <a:ext cx="153396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488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793960" y="842760"/>
            <a:ext cx="232488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79440" y="125280"/>
            <a:ext cx="4757760" cy="27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793960" y="842760"/>
            <a:ext cx="232488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2440" y="223344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488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793960" y="84276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793960" y="223344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793960" y="84276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52440" y="2233440"/>
            <a:ext cx="476424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0" y="3673440"/>
            <a:ext cx="4479840" cy="265320"/>
          </a:xfrm>
          <a:prstGeom prst="roundRect">
            <a:avLst>
              <a:gd name="adj" fmla="val 255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379440" y="3679920"/>
            <a:ext cx="2176560" cy="258840"/>
          </a:xfrm>
          <a:prstGeom prst="roundRect">
            <a:avLst>
              <a:gd name="adj" fmla="val 255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ONE LAPTOP PER CHIL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1252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3440" indent="-10008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1936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1936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1936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296640" y="3940200"/>
            <a:ext cx="27608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This works are licensed under a Creative Commons Attribution 2.5 License. 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4325760" y="3649680"/>
            <a:ext cx="1143000" cy="33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9440" y="1609200"/>
            <a:ext cx="4819680" cy="4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One Laptop per Child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28" name="AutoShape 2"/>
          <p:cNvSpPr/>
          <p:nvPr/>
        </p:nvSpPr>
        <p:spPr>
          <a:xfrm>
            <a:off x="0" y="2895480"/>
            <a:ext cx="5486400" cy="76212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Lapt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Sept. 18, 2008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0" y="568440"/>
            <a:ext cx="5486400" cy="16732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4"/>
          <p:cNvSpPr/>
          <p:nvPr/>
        </p:nvSpPr>
        <p:spPr>
          <a:xfrm>
            <a:off x="1220040" y="1981080"/>
            <a:ext cx="30762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b3b3b3"/>
                </a:solidFill>
                <a:latin typeface="Arial"/>
              </a:rPr>
              <a:t>One Laptop per Chi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XO Robustness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sk drive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ans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rdy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S/PC bump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el plate in 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5 m drop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and dust proof key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year life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_x001f_quanta-computer-olpc#2AB24A.JPG                                0007FFF5_x0008_Repo-Man                       C17146F9:"/>
          <p:cNvPicPr/>
          <p:nvPr/>
        </p:nvPicPr>
        <p:blipFill>
          <a:blip r:embed="rId1"/>
          <a:stretch/>
        </p:blipFill>
        <p:spPr>
          <a:xfrm>
            <a:off x="3124080" y="685800"/>
            <a:ext cx="213840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XO - Simple to repair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ght screws to replace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mother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_x0014_JSJTZRIBTgFnD5HO.jpg                                           0007FFF5_x0008_Repo-Man                       C17146F9:"/>
          <p:cNvPicPr/>
          <p:nvPr/>
        </p:nvPicPr>
        <p:blipFill>
          <a:blip r:embed="rId1"/>
          <a:stretch/>
        </p:blipFill>
        <p:spPr>
          <a:xfrm>
            <a:off x="2666880" y="1504800"/>
            <a:ext cx="266724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XO Gen 2 Goals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 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Rob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_x000b_sitting.jpg                                                    0007FFF5_x0008_Repo-Man                       C17146F9:"/>
          <p:cNvPicPr/>
          <p:nvPr/>
        </p:nvPicPr>
        <p:blipFill>
          <a:blip r:embed="rId1"/>
          <a:stretch/>
        </p:blipFill>
        <p:spPr>
          <a:xfrm>
            <a:off x="2666880" y="1752480"/>
            <a:ext cx="2514600" cy="16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Roadmap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61" name="Line 3"/>
          <p:cNvSpPr/>
          <p:nvPr/>
        </p:nvSpPr>
        <p:spPr>
          <a:xfrm>
            <a:off x="380880" y="1143000"/>
            <a:ext cx="46483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457200" y="1447920"/>
            <a:ext cx="11430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1600200" y="1676520"/>
            <a:ext cx="13716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6"/>
          <p:cNvSpPr/>
          <p:nvPr/>
        </p:nvSpPr>
        <p:spPr>
          <a:xfrm flipV="1">
            <a:off x="990720" y="9903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7"/>
          <p:cNvSpPr/>
          <p:nvPr/>
        </p:nvSpPr>
        <p:spPr>
          <a:xfrm flipV="1">
            <a:off x="2438280" y="9903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8"/>
          <p:cNvSpPr/>
          <p:nvPr/>
        </p:nvSpPr>
        <p:spPr>
          <a:xfrm flipV="1">
            <a:off x="3886200" y="9903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380880" y="609480"/>
            <a:ext cx="5875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1600200" y="609480"/>
            <a:ext cx="5875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2971800" y="609480"/>
            <a:ext cx="5875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380880" y="1219320"/>
            <a:ext cx="15242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y prototy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2971800" y="1905120"/>
            <a:ext cx="213372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4"/>
          <p:cNvSpPr/>
          <p:nvPr/>
        </p:nvSpPr>
        <p:spPr>
          <a:xfrm>
            <a:off x="1598040" y="1447920"/>
            <a:ext cx="11836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-prod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5"/>
          <p:cNvSpPr/>
          <p:nvPr/>
        </p:nvSpPr>
        <p:spPr>
          <a:xfrm>
            <a:off x="3123000" y="1676520"/>
            <a:ext cx="9122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16"/>
          <p:cNvSpPr/>
          <p:nvPr/>
        </p:nvSpPr>
        <p:spPr>
          <a:xfrm>
            <a:off x="2209680" y="990720"/>
            <a:ext cx="184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7"/>
          <p:cNvSpPr/>
          <p:nvPr/>
        </p:nvSpPr>
        <p:spPr>
          <a:xfrm>
            <a:off x="77040" y="1600200"/>
            <a:ext cx="6256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Laptop, 1992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e Macintosh Duo 2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40x400 (190x120mm) Monochrome Dis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3 MHz 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 MB 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1 GB disk sto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2 l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W char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28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_x000f_Mac Duo 230.gif                                                0007FFF5_x0008_Repo-Man                       C17146F9:"/>
          <p:cNvPicPr/>
          <p:nvPr/>
        </p:nvPicPr>
        <p:blipFill>
          <a:blip r:embed="rId1"/>
          <a:stretch/>
        </p:blipFill>
        <p:spPr>
          <a:xfrm>
            <a:off x="3352680" y="1523880"/>
            <a:ext cx="179244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Laptop, 2008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e MacBook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40 x 900 (332x208mm) Color dis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GHz Dual 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phics Co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0 MB 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0 GB disk sto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4 l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5W char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28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_x0012_MacBook Pro 15.jpg                                             0007FFF5_x0008_Repo-Man                       C17146F9:"/>
          <p:cNvPicPr/>
          <p:nvPr/>
        </p:nvPicPr>
        <p:blipFill>
          <a:blip r:embed="rId1"/>
          <a:stretch/>
        </p:blipFill>
        <p:spPr>
          <a:xfrm>
            <a:off x="2895480" y="1523880"/>
            <a:ext cx="24638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Traditional Laptops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al improve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computing 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non-volatile sto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nt Price Fl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ed for Office Environ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Laptop, 2008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PC X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00 x 900 (152x114mm) Color Dis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66 MHz 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phics Co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56 MB 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GB solid-state sto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45 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W char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2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_x000b_olpc-xo.jpg                                                    0007FFF5_x0008_Repo-Man                       C17146F9:"/>
          <p:cNvPicPr/>
          <p:nvPr/>
        </p:nvPicPr>
        <p:blipFill>
          <a:blip r:embed="rId1"/>
          <a:stretch/>
        </p:blipFill>
        <p:spPr>
          <a:xfrm>
            <a:off x="3048120" y="1558800"/>
            <a:ext cx="2147760" cy="19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Why an XO ?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nlight Readable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ust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moving pa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1252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than but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to Rep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XO Display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nlight readable (reflective/transmiss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00 x 900 monochr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ightly less resolution in 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able LED back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 power, low cost, sa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50 C, difficult to reach 5 year life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XO Low Power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5430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pendently powered subsyste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reless 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 suspend/ re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ns milliSe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D back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_x0011_Block Diagram.pdf                                              000D7019_x0008_Repo-Man                       C17146F9:"/>
          <p:cNvPicPr/>
          <p:nvPr/>
        </p:nvPicPr>
        <p:blipFill>
          <a:blip r:embed="rId1"/>
          <a:stretch/>
        </p:blipFill>
        <p:spPr>
          <a:xfrm>
            <a:off x="2362320" y="1371600"/>
            <a:ext cx="298440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XO Power Management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476424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ry performance strongly dependent on software activity 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ailable toda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rdware ready for suspend/resu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1252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K cycles tested vs. 20 for normal lapt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out 4 hours of battery life during normal 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-16 hours of battery life in sleep m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HM management for suspend/resu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ssive CPU suspe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Camrbridge, MA
April 23-27, 2007
</dc:description>
  <dc:language>en-US</dc:language>
  <cp:lastModifiedBy> </cp:lastModifiedBy>
  <cp:lastPrinted>2008-09-18T14:58:32Z</cp:lastPrinted>
  <dcterms:modified xsi:type="dcterms:W3CDTF">2008-12-18T19:25:31Z</dcterms:modified>
  <cp:revision>78</cp:revision>
  <dc:subject/>
  <dc:title>One Laptop per Child</dc:title>
</cp:coreProperties>
</file>